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4BB-EA0E-437F-86D4-839D588B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99B-A658-4836-A863-800130B3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588-0FE3-46C5-83B9-7ED6095E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EF2-096E-4E5A-9FCD-1FCA9810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0D1-E4A4-4F0C-A7B3-0103C1C8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8E5-FCAF-4603-A300-B1A5E22E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B06-6A8A-4AF0-A26B-3A6C3247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BB4-4A2D-493E-88E6-DEF6A9E9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89D-451B-4932-9A25-B75CEF4D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0B2-78EC-4B33-8956-393F7140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D7B-B709-44E3-9423-CA79ED62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659-4A47-439E-9CEB-0572FC56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CEA7-464E-4F0C-B3ED-499E6265DE56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ED7B-AEDC-48CC-992D-F53D81701C5F}" type="slidenum"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LU veileder om forklaring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5B5-CD99-4B0C-A7EA-FBF2C99F421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3F53D-7764-454A-A425-63223B3725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Korreksjon av forklaring</a:t>
            </a:r>
            <a:r>
              <a:rPr b="1" lang="nb-NO" sz="4400" spc="-1" strike="noStrike">
                <a:solidFill>
                  <a:srgbClr val="000066"/>
                </a:solidFill>
                <a:latin typeface="Times New Roman"/>
              </a:rPr>
              <a:t>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En spiller som hører sin makker gi en forklaring som avviker fra egen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forståelse av makkeravtalen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,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er pålagt å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korrigere forklaringen. 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(i rett tid)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Korreksjon kan unnlates bare når spilleren blir oppmerksom på at han selv etter avtalen har meldt feil og han kan godtgjøre dette på stede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Når makkeravtalen ikke kan dokumenteres så er regelen at melderens forståelse av avtalen er den rette og at forklaringen er fei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2BA-FEBA-4860-8B98-27DFEC6A65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9B479-AEAF-4767-8090-F44A4F6526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Rett til forklaring</a:t>
            </a:r>
            <a:r>
              <a:rPr b="1" lang="nb-NO" sz="4400" spc="-1" strike="noStrike">
                <a:solidFill>
                  <a:srgbClr val="000066"/>
                </a:solidFill>
                <a:latin typeface="Times New Roman"/>
              </a:rPr>
              <a:t>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990000"/>
                </a:solidFill>
                <a:latin typeface="Arial"/>
                <a:ea typeface="Arial"/>
              </a:rPr>
              <a:t>§ 75 </a:t>
            </a:r>
            <a:r>
              <a:rPr b="1" lang="en-GB" sz="2800" spc="-1" strike="noStrike">
                <a:solidFill>
                  <a:srgbClr val="990000"/>
                </a:solidFill>
                <a:latin typeface="Arial"/>
                <a:ea typeface="Arial"/>
              </a:rPr>
              <a:t>A SPESIELLE MAKKERAVTALER</a:t>
            </a:r>
            <a:br>
              <a:rPr sz="3200"/>
            </a:br>
            <a:r>
              <a:rPr b="0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Spesielle makkeravtaler må være fullstendig og ubetinget tilgjengelige for motstanderne (se </a:t>
            </a:r>
            <a:r>
              <a:rPr b="0" lang="nb-NO" sz="3200" spc="-1" strike="noStrike">
                <a:solidFill>
                  <a:srgbClr val="990000"/>
                </a:solidFill>
                <a:latin typeface="Arial"/>
                <a:ea typeface="Arial"/>
              </a:rPr>
              <a:t>§ 40</a:t>
            </a:r>
            <a:r>
              <a:rPr b="0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),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uansett om de er klart avtal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eller underforstått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Den informasjon som formidles til makker gjennom slike avtaler må kun formidles gjennom meldinger, spill og betingelsene for den aktuelle giv.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DB5-B76D-414B-B816-0570D75150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67AA4-A5E1-4AEF-99F2-1AA3E3E4BB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Rett til forklaring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En spiller har rett til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Å se på motpartens systemkor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Å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be om å få forklart meldinger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når det er hans tur til å melde eller spille.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(§20, 40)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Spørsmålet bør holdes i en nøytral form som ikke formidler urettmessig informasjon til makker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Det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er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uetisk å spørre for å henlede makkers oppmerksomhet på noe en selv vet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tte kan straffes som urettmessig informasjon</a:t>
            </a: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 fra makker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058-C77D-49CB-ADC7-CDE50E3430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1839D-F13F-4E8B-AB7F-19C7C45535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va skal forklare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En forklaring skal innholde opplysning om hva meldinger betyr etter parets makkeravtale.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n makkeravtale omfatter ikke bare eksplisitt avtalte situasjoner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men også felles forståelse opparbeidet gjennom makkerskap eller tilhold i samme miljø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ersom det ikke er noen makkeravtale, har motparten bare krav på informasjon om dett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Vel etablerte par bør være varsom</a:t>
            </a: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me</a:t>
            </a: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 med å påberope seg ikke-avtale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Dersom en spiller forsøker å forklare en melding når det ikke er noen avtale,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så er det lett å komme i skade for å gi feil forklaring til motparten og samtidig urettmessig informasjon til makk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F41-5871-4290-AFD1-1C9E0D3420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DFBFC-043F-404A-ACF9-07328A139E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vordan forklar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En forklaring bør fokusere på hva makkers melding viser at han </a:t>
            </a:r>
            <a:r>
              <a:rPr b="1" i="1" lang="en-GB" sz="2400" spc="-1" strike="noStrike">
                <a:solidFill>
                  <a:srgbClr val="990000"/>
                </a:solidFill>
                <a:latin typeface="Times New Roman"/>
              </a:rPr>
              <a:t>har</a:t>
            </a:r>
            <a:r>
              <a:rPr b="0" i="1" lang="en-GB" sz="2400" spc="-1" strike="noStrike">
                <a:solidFill>
                  <a:srgbClr val="99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Til dette er det  mest hensiktsmessig å bruk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tall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for fargelengder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honnørpoeng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spillestikk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taper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ller andre størrelser som inngår i systemdefinisjonen, avtalen eller deres felles forståels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et er lite opplysende å bruke ord som</a:t>
            </a:r>
            <a:r>
              <a:rPr b="0" i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har åpning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sperrebeton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 eller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 spillemelding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Det er også viktig at forklaringen i form viser respekt for at motparten kanskje har en annen sjargong eller kommer fra et bridgemiljø med et annet tankesett.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BAC-70E3-4AD9-A43A-80388946FD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5161E-946B-4A2E-A498-4BE3271D98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OM HUK konvensjon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eldingene skal være mest mulig veldefinerte, F.eks 1♥ - D - 1♠ alert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eldingen sier ingenting om sparfargen, og meldingen er krav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Forsvarsforslaget skal være på vedlegget til systemkortet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tspillerne kan studere forsvaret under hele meldingsforløpet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et er ikke nok å si hvilken gruppe HUK meldingen tilhører)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A13-72B1-4EC2-BB43-25FD4ED4E0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E63B6-9DF2-4CDB-9067-022F40F39D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Når en  ikke kan svare på spørsmå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l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§20 F1 sier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”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svar på spørsmål om makkeravtaler bør normalt gis av makkeren til den spilleren som har avgitt den aktuelle meldingen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”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vis denne spilleren har glemt avtalen så kan TL ta spilleren bort fra bordet og la den som har avgitt meldingen forklare makkeravtalen.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(Han har i så fall ingen plikt til å avsløre en bløff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Merk at selv opplysningen om glemt avtale kan bli dømt som </a:t>
            </a: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UI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4BBE-6D65-452B-B75B-85E90A11D7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6573D-465A-49C4-85F2-45D2571B65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Når en  ikke kan svare på spørsmå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l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990000"/>
                </a:solidFill>
                <a:latin typeface="Times New Roman"/>
              </a:rPr>
              <a:t>Når det ikke er noen makkeravtal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Det er klare krav til ikke-avta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990000"/>
                </a:solidFill>
                <a:latin typeface="Times New Roman"/>
              </a:rPr>
              <a:t>Makkerpar med 2-300 spill bak seg har ”avtaler” om det aller mest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Motstanderne har bare krav på opplysning om ikke-avta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Det er alltid UI til makker å si hva en tror det 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Motparten har ikke rett til å vite hvilken tolkning som er grunnlaget for svarerens senere meldinger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C0D-B6DF-4543-8D5B-378138AD2D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62276-6AD8-465C-9156-E2376D72A6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Korreksjon av forklaring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990000"/>
                </a:solidFill>
                <a:latin typeface="Times New Roman"/>
              </a:rPr>
              <a:t>Spillerne har plikt til å korrigere makkers feil forklar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66"/>
                </a:solidFill>
                <a:latin typeface="Times New Roman"/>
              </a:rPr>
              <a:t>Spillefører og blindemann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Etter avsluttende pass og før åpningsutspillet blir snud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66"/>
                </a:solidFill>
                <a:latin typeface="Times New Roman"/>
              </a:rPr>
              <a:t>Motspill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Etter at spillet er slut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383-47BE-4B1E-8548-1A2F3C73AC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8958D-C626-4DA4-A18E-6E805703DD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4:54:29Z</dcterms:created>
  <dc:creator>Per Nordland</dc:creator>
  <dc:description/>
  <dc:language>en-US</dc:language>
  <cp:lastModifiedBy>Per Nordland</cp:lastModifiedBy>
  <dcterms:modified xsi:type="dcterms:W3CDTF">2002-05-17T19:40:10Z</dcterms:modified>
  <cp:revision>5</cp:revision>
  <dc:subject/>
  <dc:title>LU veileder om forklaringer</dc:title>
</cp:coreProperties>
</file>